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9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C3D4-C96D-48B9-8713-DC89C0B4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03F8-C6A3-4C5B-9E88-50EC5D36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BBC4-9C2E-4658-A577-5E543B39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AD8F-A820-459F-A055-5FDA7EF2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96EE-C323-47DE-9781-D9EE9730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F97E-88FC-4E8A-9631-8760C3F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454-E711-4023-A137-A98E588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B0D-04EE-4B67-B3C7-F80CE2A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6A5-D09D-4705-B972-8BC0C5E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253A-4142-47CB-BB17-03A9C557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C967-A987-47A7-A5CF-1082D57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5BB3-86D8-4E43-AA17-D558418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F0DA-2E78-491C-AC05-A83096C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E94B-56F8-4A26-89AB-CA38EA7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A885-6E02-4609-8F1A-46DCC435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7CA-98DE-4C79-9DA8-FB146142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8AB2-94BD-4289-9488-430948B2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9FF7-3812-4AE1-89DD-475F3DD7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C96F-8F2D-42C0-828B-F30115E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F20F-65A1-499D-8AFB-CF617B18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244D-3B54-4B66-8DAA-7554E73E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AD4D-1BCB-4DC5-BEF8-A7A6FF0F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DF32-FFC2-4E47-A165-51C71AD5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585A-0CA3-4F13-96D3-56BDC38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B67F-E62C-4120-84A6-0C86633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56D4-04DB-4DB4-A44E-5873EDC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2C39-8466-4E54-98B4-816712B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97D4-8D1D-4321-8ED0-AAB1B73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93FE-1B83-4870-8E46-692C6FFB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C725-9A15-40E0-8425-454D1D10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AA5B-04E0-49E1-A902-8A42B2B4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CA5A-BF11-4819-8337-CA92EAA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FBA9-31FA-432F-9CC0-A66FB67F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5286-83EB-4C00-B7D1-44ABD536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3F61-3B03-49D8-99E9-69625050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EB86-99B6-4DF4-8147-694FD77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102AB-7C12-4621-ADC7-C7103BF4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2CD2-40B3-4EF1-939D-BD9C17C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8373-2702-43CE-AFAC-BC98E9B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8585-4ABC-4A90-B398-D556339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4A2C-6666-49CC-B0F0-20DCA81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92A7-18E6-49E8-A0D2-3E64A198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BEE0-08FC-4DF9-8116-A7EC32CB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3712-D8B1-47AB-83C0-9FF5200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953E-DFA3-450D-BDA5-E90FE4EA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E535-52A8-4FE7-A0E1-82D2A31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2F02-8978-4AC3-8E78-B2B9CF6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6532-4B7D-48B3-AA65-30A3D643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62A9-E4C8-493D-A43D-A62684AB82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CED-2A8F-4E6B-A86E-36EB80D1F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E83-BD29-4B28-80D5-1ABCAE381D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B85F-52E1-4D06-BFE1-9951B3D585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1430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Por: Abby Dine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752480" y="30492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bf25a"/>
                    </a:gs>
                    <a:gs pos="100000">
                      <a:srgbClr val="ff505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Tres Comidas Del Dia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ebf25a"/>
                  </a:gs>
                  <a:gs pos="100000">
                    <a:srgbClr val="ff505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452680" cy="213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ara el Desayuno me gusta come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Panqueques con chocolate, un bagels con mantaquilla, el tocino, y tostadas de canela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Me gusta beber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Un leche, el agua,  jugo de naranja, y un cafe solo.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762120" y="4572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abd5ff"/>
                    </a:gs>
                  </a:gsLst>
                  <a:lin ang="5400000"/>
                </a:gradFill>
                <a:latin typeface="Papyrus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abd5ff"/>
                    </a:gs>
                  </a:gsLst>
                  <a:lin ang="5400000"/>
                </a:gradFill>
                <a:latin typeface="Papyrus"/>
              </a:rPr>
              <a:t>El Desayun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abd5ff"/>
                  </a:gs>
                </a:gsLst>
                <a:lin ang="5400000"/>
              </a:gradFill>
              <a:latin typeface="Papyrus"/>
              <a:ea typeface="Papyrus"/>
            </a:endParaRPr>
          </a:p>
        </p:txBody>
      </p:sp>
      <p:pic>
        <p:nvPicPr>
          <p:cNvPr id="213" name="Picture 7" descr="ANd9GcRhHa6igGE9zs6t9KgIhQHCiCY1OQvTYxFPvaGB1gxr32PsKS2a"/>
          <p:cNvPicPr/>
          <p:nvPr/>
        </p:nvPicPr>
        <p:blipFill>
          <a:blip r:embed="rId1"/>
          <a:stretch/>
        </p:blipFill>
        <p:spPr>
          <a:xfrm>
            <a:off x="5562720" y="5029200"/>
            <a:ext cx="1371600" cy="91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AutoShape 9"/>
          <p:cNvSpPr/>
          <p:nvPr/>
        </p:nvSpPr>
        <p:spPr>
          <a:xfrm>
            <a:off x="3581280" y="2895480"/>
            <a:ext cx="1981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77760" y="46080"/>
            <a:ext cx="198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77760" y="46080"/>
            <a:ext cx="198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20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3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3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4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4" descr="ANd9GcQ2CtSizrJ7ozBRgytQMMcgxcR4fznPWDKHwiHhuhMrc0H87Rt0"/>
          <p:cNvPicPr/>
          <p:nvPr/>
        </p:nvPicPr>
        <p:blipFill>
          <a:blip r:embed="rId2"/>
          <a:stretch/>
        </p:blipFill>
        <p:spPr>
          <a:xfrm>
            <a:off x="7162920" y="228600"/>
            <a:ext cx="1218960" cy="95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0" name="Picture 46" descr="ANd9GcQhZb6sM3BKnyMwinjAQ3AljZc2dMh9vnBUwhpWl5WaAU7WAqJZwg"/>
          <p:cNvPicPr/>
          <p:nvPr/>
        </p:nvPicPr>
        <p:blipFill>
          <a:blip r:embed="rId3"/>
          <a:stretch/>
        </p:blipFill>
        <p:spPr>
          <a:xfrm>
            <a:off x="5638680" y="35053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8" descr="ANd9GcTKPa3KQR62_MS-D45VqE8PlbgVmuP7845zKL4PQbmGi9OaMfmePA"/>
          <p:cNvPicPr/>
          <p:nvPr/>
        </p:nvPicPr>
        <p:blipFill>
          <a:blip r:embed="rId4"/>
          <a:stretch/>
        </p:blipFill>
        <p:spPr>
          <a:xfrm>
            <a:off x="7086600" y="1523880"/>
            <a:ext cx="1486080" cy="1074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4"/>
          <p:cNvSpPr/>
          <p:nvPr/>
        </p:nvSpPr>
        <p:spPr>
          <a:xfrm>
            <a:off x="3124080" y="1905120"/>
            <a:ext cx="2324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56"/>
          <p:cNvSpPr/>
          <p:nvPr/>
        </p:nvSpPr>
        <p:spPr>
          <a:xfrm>
            <a:off x="77760" y="46080"/>
            <a:ext cx="2324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58"/>
          <p:cNvSpPr/>
          <p:nvPr/>
        </p:nvSpPr>
        <p:spPr>
          <a:xfrm>
            <a:off x="77760" y="46080"/>
            <a:ext cx="2324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60"/>
          <p:cNvSpPr/>
          <p:nvPr/>
        </p:nvSpPr>
        <p:spPr>
          <a:xfrm>
            <a:off x="77760" y="46080"/>
            <a:ext cx="28195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2" descr="ANd9GcQFhkk2Z67zE9SmqeqG95xaCGl51dh50fJtf8EqzrEHQ5GijQv3eA"/>
          <p:cNvPicPr/>
          <p:nvPr/>
        </p:nvPicPr>
        <p:blipFill>
          <a:blip r:embed="rId5"/>
          <a:stretch/>
        </p:blipFill>
        <p:spPr>
          <a:xfrm>
            <a:off x="5257800" y="152280"/>
            <a:ext cx="1690560" cy="1266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4" descr="ANd9GcRA_Cv5tMQts31kPclTug_YcHHMS4AthW-oH9gy4k_-a9ioCMs_"/>
          <p:cNvPicPr/>
          <p:nvPr/>
        </p:nvPicPr>
        <p:blipFill>
          <a:blip r:embed="rId6"/>
          <a:stretch/>
        </p:blipFill>
        <p:spPr>
          <a:xfrm>
            <a:off x="7391520" y="3124080"/>
            <a:ext cx="1177920" cy="223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6" descr="ANd9GcTGy9DDcpWF8huDvqziuVMlolwNnS8NO53R7_NcYc3rTFJQO6isFw"/>
          <p:cNvPicPr/>
          <p:nvPr/>
        </p:nvPicPr>
        <p:blipFill>
          <a:blip r:embed="rId7"/>
          <a:stretch/>
        </p:blipFill>
        <p:spPr>
          <a:xfrm>
            <a:off x="5638680" y="1600200"/>
            <a:ext cx="12128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5486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Para el almuerzo me gusta come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Una pizza, un sandwich, </a:t>
            </a:r>
            <a:r>
              <a:rPr b="0" lang="es-ES" sz="2400" spc="-1" strike="noStrike">
                <a:solidFill>
                  <a:srgbClr val="ff5050"/>
                </a:solidFill>
                <a:latin typeface="Cambria"/>
              </a:rPr>
              <a:t>ensalada César, macarrones con queso, ensalada de pollo, y hamburguesa con queso y tocino con papas fri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me gusta beber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El agua, un leche, un limonada, y </a:t>
            </a:r>
            <a:r>
              <a:rPr b="0" lang="es-ES" sz="2400" spc="-1" strike="noStrike">
                <a:solidFill>
                  <a:srgbClr val="ff5050"/>
                </a:solidFill>
                <a:latin typeface="Cambria"/>
              </a:rPr>
              <a:t>coca-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609480" y="45720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565"/>
                    </a:gs>
                    <a:gs pos="100000">
                      <a:srgbClr val="ff5050"/>
                    </a:gs>
                  </a:gsLst>
                  <a:lin ang="8100000"/>
                </a:gradFill>
                <a:latin typeface="Papyrus"/>
              </a:rPr>
              <a:t>El Almuerzo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565"/>
                  </a:gs>
                  <a:gs pos="100000">
                    <a:srgbClr val="ff5050"/>
                  </a:gs>
                </a:gsLst>
                <a:lin ang="8100000"/>
              </a:gradFill>
              <a:latin typeface="Papyrus"/>
              <a:ea typeface="Papyrus"/>
            </a:endParaRPr>
          </a:p>
        </p:txBody>
      </p:sp>
      <p:pic>
        <p:nvPicPr>
          <p:cNvPr id="241" name="Picture 6" descr="ANd9GcSzGYIVjhTgQ1l6AEdj5BLWyrqXcAh96HhAsuVG2MtcUeDivf2z"/>
          <p:cNvPicPr/>
          <p:nvPr/>
        </p:nvPicPr>
        <p:blipFill>
          <a:blip r:embed="rId1"/>
          <a:stretch/>
        </p:blipFill>
        <p:spPr>
          <a:xfrm>
            <a:off x="4495680" y="228600"/>
            <a:ext cx="2257560" cy="1279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77760" y="46080"/>
            <a:ext cx="14000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77760" y="46080"/>
            <a:ext cx="13240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4"/>
          <p:cNvSpPr/>
          <p:nvPr/>
        </p:nvSpPr>
        <p:spPr>
          <a:xfrm>
            <a:off x="77760" y="46080"/>
            <a:ext cx="13240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16" descr="ANd9GcTIWS-BHdnmxKZ3WjngqI-fWyJjKCeJvV-1DD9_f2K2CGLpQP1S_w"/>
          <p:cNvPicPr/>
          <p:nvPr/>
        </p:nvPicPr>
        <p:blipFill>
          <a:blip r:embed="rId2"/>
          <a:stretch/>
        </p:blipFill>
        <p:spPr>
          <a:xfrm>
            <a:off x="6858000" y="152280"/>
            <a:ext cx="2057400" cy="13636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8"/>
          <p:cNvSpPr/>
          <p:nvPr/>
        </p:nvSpPr>
        <p:spPr>
          <a:xfrm>
            <a:off x="3657600" y="2743200"/>
            <a:ext cx="1314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20"/>
          <p:cNvSpPr/>
          <p:nvPr/>
        </p:nvSpPr>
        <p:spPr>
          <a:xfrm>
            <a:off x="3828960" y="2752560"/>
            <a:ext cx="148608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22" descr="ANd9GcSewqjyvGVggLgAN4tv1IafEokx5TkMN0w9XQvuMr0S_4F4_JPtMQ"/>
          <p:cNvPicPr/>
          <p:nvPr/>
        </p:nvPicPr>
        <p:blipFill>
          <a:blip r:embed="rId3"/>
          <a:stretch/>
        </p:blipFill>
        <p:spPr>
          <a:xfrm>
            <a:off x="7238880" y="3352680"/>
            <a:ext cx="1600200" cy="1400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4" descr="ANd9GcRuBEiEjdjUnwel6U2lXKzlBxjL1xX7FdJrqLullLXDtMiHc64Bvw"/>
          <p:cNvPicPr/>
          <p:nvPr/>
        </p:nvPicPr>
        <p:blipFill>
          <a:blip r:embed="rId4"/>
          <a:stretch/>
        </p:blipFill>
        <p:spPr>
          <a:xfrm>
            <a:off x="6324480" y="1676520"/>
            <a:ext cx="2333880" cy="15523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28"/>
          <p:cNvSpPr/>
          <p:nvPr/>
        </p:nvSpPr>
        <p:spPr>
          <a:xfrm>
            <a:off x="77760" y="46080"/>
            <a:ext cx="11714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30" descr="ANd9GcQW2ldzJ09GrVol2ob9RQPHoXpaThZ5nEiu47pE-jDErcIR8w0UEw"/>
          <p:cNvPicPr/>
          <p:nvPr/>
        </p:nvPicPr>
        <p:blipFill>
          <a:blip r:embed="rId5"/>
          <a:stretch/>
        </p:blipFill>
        <p:spPr>
          <a:xfrm>
            <a:off x="5562720" y="3429000"/>
            <a:ext cx="1322280" cy="136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2" descr="ANd9GcSJLmV19XIpaLQYCw9_Zuy87t7D3A0EN-ALpBVyOAGQxd8HABF5"/>
          <p:cNvPicPr/>
          <p:nvPr/>
        </p:nvPicPr>
        <p:blipFill>
          <a:blip r:embed="rId6"/>
          <a:stretch/>
        </p:blipFill>
        <p:spPr>
          <a:xfrm>
            <a:off x="6172200" y="4876920"/>
            <a:ext cx="19051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Harrington"/>
              </a:rPr>
              <a:t>Para la cena me gusta comer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Harrington"/>
              </a:rPr>
              <a:t>spagehtti y albóndigas, un pollo, el mariscos, hamburguesa con queso y tocino con papas fritas, un biftec con el puré de papas, ensalada, un sopa, un pizza, y el internacionales de los alim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Harrington"/>
              </a:rPr>
              <a:t>Me gusta beber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Harringto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Harrington"/>
              </a:rPr>
              <a:t>un leche, una agua, la limonada, y el refres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Rectangle 1" descr=""/>
          <p:cNvPicPr/>
          <p:nvPr/>
        </p:nvPicPr>
        <p:blipFill>
          <a:blip r:embed="rId1"/>
          <a:stretch/>
        </p:blipFill>
        <p:spPr>
          <a:xfrm>
            <a:off x="530280" y="291960"/>
            <a:ext cx="2938320" cy="1013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803600" cy="1803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3"/>
          <a:stretch/>
        </p:blipFill>
        <p:spPr>
          <a:xfrm>
            <a:off x="4419720" y="152280"/>
            <a:ext cx="2076480" cy="1549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4"/>
          <a:stretch/>
        </p:blipFill>
        <p:spPr>
          <a:xfrm>
            <a:off x="7162920" y="2133720"/>
            <a:ext cx="1746000" cy="130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6"/>
          <a:stretch/>
        </p:blipFill>
        <p:spPr>
          <a:xfrm>
            <a:off x="7086600" y="3809880"/>
            <a:ext cx="173988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7"/>
          <a:stretch/>
        </p:blipFill>
        <p:spPr>
          <a:xfrm>
            <a:off x="5715000" y="2057400"/>
            <a:ext cx="1371600" cy="183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8"/>
          <a:stretch/>
        </p:blipFill>
        <p:spPr>
          <a:xfrm>
            <a:off x="7315200" y="5105520"/>
            <a:ext cx="1193760" cy="1504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426708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12952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andwriting - Dakota"/>
              </a:rPr>
              <a:t>Para me gusta comer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Handwriting - Dakota"/>
              </a:rPr>
              <a:t>masa para pastel de helado, la chocolate galleta, el pastel, las fresas cubiertas de chocolate,  celestiales hash, y los brown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Rectangle 3" descr=""/>
          <p:cNvPicPr/>
          <p:nvPr/>
        </p:nvPicPr>
        <p:blipFill>
          <a:blip r:embed="rId2"/>
          <a:stretch/>
        </p:blipFill>
        <p:spPr>
          <a:xfrm>
            <a:off x="517680" y="285840"/>
            <a:ext cx="3384360" cy="969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086600" y="609480"/>
            <a:ext cx="1847880" cy="138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4"/>
          <a:stretch/>
        </p:blipFill>
        <p:spPr>
          <a:xfrm>
            <a:off x="4267080" y="380880"/>
            <a:ext cx="2286000" cy="1516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5"/>
          <a:stretch/>
        </p:blipFill>
        <p:spPr>
          <a:xfrm>
            <a:off x="6705720" y="259092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6"/>
          <a:stretch/>
        </p:blipFill>
        <p:spPr>
          <a:xfrm>
            <a:off x="4267080" y="2209680"/>
            <a:ext cx="2032200" cy="1524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7"/>
          <a:stretch/>
        </p:blipFill>
        <p:spPr>
          <a:xfrm>
            <a:off x="6934320" y="4343400"/>
            <a:ext cx="1904760" cy="1511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8"/>
          <a:stretch/>
        </p:blipFill>
        <p:spPr>
          <a:xfrm>
            <a:off x="4114800" y="4343400"/>
            <a:ext cx="2133720" cy="1563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3504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Papyrus"/>
              </a:rPr>
              <a:t>Para me  gusta come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Papyrus"/>
              </a:rPr>
              <a:t>papas fritas, </a:t>
            </a:r>
            <a:r>
              <a:rPr b="1" lang="es-ES" sz="2800" spc="-1" strike="noStrike">
                <a:solidFill>
                  <a:srgbClr val="ff7c80"/>
                </a:solidFill>
                <a:latin typeface="Papyrus"/>
              </a:rPr>
              <a:t>las palomitas de maíz, las galletas, el helado, el bagel picaduras, y el</a:t>
            </a:r>
            <a:br>
              <a:rPr sz="2800"/>
            </a:br>
            <a:r>
              <a:rPr b="1" lang="es-ES" sz="2800" spc="-1" strike="noStrike">
                <a:solidFill>
                  <a:srgbClr val="ff7c80"/>
                </a:solidFill>
                <a:latin typeface="Papyrus"/>
              </a:rPr>
              <a:t>aros de ceboll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228600"/>
            <a:ext cx="3733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00ffff"/>
                    </a:gs>
                  </a:gsLst>
                  <a:lin ang="8100000"/>
                </a:gradFill>
                <a:latin typeface="Bradley Hand ITC"/>
              </a:rPr>
              <a:t>Las Meriend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00ffff"/>
                  </a:gs>
                </a:gsLst>
                <a:lin ang="8100000"/>
              </a:gradFill>
              <a:latin typeface="Bradley Hand ITC"/>
              <a:ea typeface="Bradley Hand ITC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448080" y="2457360"/>
            <a:ext cx="2247840" cy="1943280"/>
            <a:chOff x="3448080" y="2457360"/>
            <a:chExt cx="2247840" cy="1943280"/>
          </a:xfrm>
        </p:grpSpPr>
        <p:sp>
          <p:nvSpPr>
            <p:cNvPr id="274" name=""/>
            <p:cNvSpPr txBox="1"/>
            <p:nvPr/>
          </p:nvSpPr>
          <p:spPr>
            <a:xfrm>
              <a:off x="3448080" y="2457360"/>
              <a:ext cx="2247840" cy="19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52760" y="2457360"/>
            <a:ext cx="2238480" cy="1943280"/>
            <a:chOff x="3452760" y="2457360"/>
            <a:chExt cx="2238480" cy="1943280"/>
          </a:xfrm>
        </p:grpSpPr>
        <p:sp>
          <p:nvSpPr>
            <p:cNvPr id="276" name=""/>
            <p:cNvSpPr txBox="1"/>
            <p:nvPr/>
          </p:nvSpPr>
          <p:spPr>
            <a:xfrm>
              <a:off x="3452760" y="2457360"/>
              <a:ext cx="2238480" cy="19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2057400" cy="1282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400800" y="1905120"/>
            <a:ext cx="200988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3567240" y="2867040"/>
            <a:ext cx="2009520" cy="1123920"/>
            <a:chOff x="3567240" y="2867040"/>
            <a:chExt cx="2009520" cy="1123920"/>
          </a:xfrm>
        </p:grpSpPr>
        <p:sp>
          <p:nvSpPr>
            <p:cNvPr id="281" name=""/>
            <p:cNvSpPr txBox="1"/>
            <p:nvPr/>
          </p:nvSpPr>
          <p:spPr>
            <a:xfrm>
              <a:off x="3567240" y="2867040"/>
              <a:ext cx="2009520" cy="112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191120" y="2970360"/>
            <a:ext cx="1600200" cy="1373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705720" y="3733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2819520" y="4952880"/>
            <a:ext cx="315252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4" descr=""/>
          <p:cNvPicPr/>
          <p:nvPr/>
        </p:nvPicPr>
        <p:blipFill>
          <a:blip r:embed="rId2"/>
          <a:stretch/>
        </p:blipFill>
        <p:spPr>
          <a:xfrm>
            <a:off x="3462480" y="987480"/>
            <a:ext cx="229212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06Z</dcterms:created>
  <dc:creator>dinermanabi</dc:creator>
  <dc:description/>
  <dc:language>en-US</dc:language>
  <cp:lastModifiedBy>dinermanabi</cp:lastModifiedBy>
  <dcterms:modified xsi:type="dcterms:W3CDTF">2011-04-14T14:52:28Z</dcterms:modified>
  <cp:revision>10</cp:revision>
  <dc:subject/>
  <dc:title>Slide 1</dc:title>
</cp:coreProperties>
</file>